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4AF0-5C08-4ED5-9746-27A0B010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DDD3-591E-4E0D-BB83-1BEDB99F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B4A9-A952-45D5-A84E-285896EC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8715-F301-4E21-B83E-C33EF839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F9A8-5242-4124-B7E7-CFD6F864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6980-5821-4CE8-A85C-34C1D963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517D-D819-49E6-8E95-BF405CD2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2856-5BD9-4E67-AC3E-DFEC8A96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2B03-340F-4210-AAC2-CF296D98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9C78-F27A-416B-8132-10E1B17A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EDF5-4753-48CE-B496-42704F21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6F0C-4000-4FC4-9C80-8D3AFB04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Google Shape;54;p100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Google Shape;64;p102"/>
          <p:cNvSpPr/>
          <p:nvPr/>
        </p:nvSpPr>
        <p:spPr>
          <a:xfrm>
            <a:off x="487440" y="5303880"/>
            <a:ext cx="208440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Google Shape;66;p103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Google Shape;72;p104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Google Shape;73;p104"/>
          <p:cNvSpPr/>
          <p:nvPr/>
        </p:nvSpPr>
        <p:spPr>
          <a:xfrm>
            <a:off x="7510320" y="0"/>
            <a:ext cx="3648240" cy="6858000"/>
          </a:xfrm>
          <a:prstGeom prst="rect">
            <a:avLst/>
          </a:prstGeom>
          <a:solidFill>
            <a:srgbClr val="f2f2f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Google Shape;79;p105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Google Shape;84;p106"/>
          <p:cNvSpPr/>
          <p:nvPr/>
        </p:nvSpPr>
        <p:spPr>
          <a:xfrm>
            <a:off x="0" y="0"/>
            <a:ext cx="121921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546a"/>
                </a:solidFill>
                <a:latin typeface="Century Gothic"/>
                <a:ea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F370-9256-4B3C-9D84-8B9A91F6EAFF}" type="slidenum">
              <a:rPr b="0" lang="en-US" sz="1200" spc="-1" strike="noStrike">
                <a:solidFill>
                  <a:srgbClr val="44546a"/>
                </a:solidFill>
                <a:latin typeface="Century Gothic"/>
                <a:ea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Google Shape;13;p93" descr="A picture containing text, windmill, device&#10;&#10;Description automatically generated"/>
          <p:cNvPicPr/>
          <p:nvPr/>
        </p:nvPicPr>
        <p:blipFill>
          <a:blip r:embed="rId2"/>
          <a:srcRect l="0" t="26823" r="0" b="12574"/>
          <a:stretch/>
        </p:blipFill>
        <p:spPr>
          <a:xfrm>
            <a:off x="-131760" y="1270080"/>
            <a:ext cx="12534840" cy="42768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Google Shape;24;p95"/>
          <p:cNvSpPr/>
          <p:nvPr/>
        </p:nvSpPr>
        <p:spPr>
          <a:xfrm>
            <a:off x="0" y="0"/>
            <a:ext cx="79675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Google Shape;27;p95"/>
          <p:cNvSpPr/>
          <p:nvPr/>
        </p:nvSpPr>
        <p:spPr>
          <a:xfrm>
            <a:off x="6900840" y="1598760"/>
            <a:ext cx="3648240" cy="36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Google Shape;31;p96" descr="A picture containing text, windmill, device&#10;&#10;Description automatically generated"/>
          <p:cNvPicPr/>
          <p:nvPr/>
        </p:nvPicPr>
        <p:blipFill>
          <a:blip r:embed="rId2"/>
          <a:stretch/>
        </p:blipFill>
        <p:spPr>
          <a:xfrm>
            <a:off x="-12600" y="-12600"/>
            <a:ext cx="12360240" cy="6959520"/>
          </a:xfrm>
          <a:prstGeom prst="rect">
            <a:avLst/>
          </a:prstGeom>
          <a:ln w="0">
            <a:noFill/>
          </a:ln>
        </p:spPr>
      </p:pic>
      <p:pic>
        <p:nvPicPr>
          <p:cNvPr id="198" name="Google Shape;32;p96" descr="A picture containing text, windmill, device&#10;&#10;Description automatically generated"/>
          <p:cNvPicPr/>
          <p:nvPr/>
        </p:nvPicPr>
        <p:blipFill>
          <a:blip r:embed="rId3"/>
          <a:srcRect l="0" t="19855" r="0" b="20292"/>
          <a:stretch/>
        </p:blipFill>
        <p:spPr>
          <a:xfrm>
            <a:off x="0" y="0"/>
            <a:ext cx="12360240" cy="4165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Google Shape;36;p97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Google Shape;44;p98"/>
          <p:cNvSpPr/>
          <p:nvPr/>
        </p:nvSpPr>
        <p:spPr>
          <a:xfrm>
            <a:off x="0" y="0"/>
            <a:ext cx="3327480" cy="68580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Google Shape;49;p99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youtu.be/KkYeP5cRyRA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74720" y="1951200"/>
            <a:ext cx="924552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Microbiology Specimen Labeli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876240" y="573048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5408f"/>
                </a:solidFill>
                <a:latin typeface="Arial"/>
              </a:rPr>
              <a:t>[Your Organization Here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16048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VIDEO – ROCHE LI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3428640"/>
            <a:ext cx="10515600" cy="231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HTTPS://YOUTU.BE/KKYEP5CRY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Blood Culture Bott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block/obstruct bar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code needed to scan in instru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35" name="Google Shape;124;p2" descr="photo of a bottle used in the laboratory stating the importance of not covering up the barcode. "/>
          <p:cNvPicPr/>
          <p:nvPr/>
        </p:nvPicPr>
        <p:blipFill>
          <a:blip r:embed="rId2"/>
          <a:srcRect l="0" t="10663" r="4365" b="15923"/>
          <a:stretch/>
        </p:blipFill>
        <p:spPr>
          <a:xfrm>
            <a:off x="6900840" y="1598760"/>
            <a:ext cx="357192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terile Contain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ne – Label actual container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the 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sure the lid is properly closed to prevent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body fl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39" name="Google Shape;132;p3" descr="photo of a example of a sterile container. "/>
          <p:cNvPicPr/>
          <p:nvPr/>
        </p:nvPicPr>
        <p:blipFill>
          <a:blip r:embed="rId2"/>
          <a:srcRect l="0" t="0" r="2597" b="2285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T/G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rine or sw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sending swab, obtain specimen collection from Microbi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se the swab and insert into smaller tube.  Send smaller tube with swab to the laborato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urine, send urine to microbi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43" name="Google Shape;139;p4" descr="a photo showing an example of a swab. "/>
          <p:cNvPicPr/>
          <p:nvPr/>
        </p:nvPicPr>
        <p:blipFill>
          <a:blip r:embed="rId2"/>
          <a:srcRect l="10069" t="0" r="14967" b="0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wab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 Swabs – Viral Te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/R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SV/VZ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iratory 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Sizes: 3mL and 1 mL (pe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-on orders for Respiratory Panel same as FLU sw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47" name="Google Shape;146;p5" descr="a photo showing a example of a respiratory panel and swab. "/>
          <p:cNvPicPr/>
          <p:nvPr/>
        </p:nvPicPr>
        <p:blipFill>
          <a:blip r:embed="rId2"/>
          <a:srcRect l="27474" t="24007" r="17667" b="2644"/>
          <a:stretch/>
        </p:blipFill>
        <p:spPr>
          <a:xfrm>
            <a:off x="6900840" y="1600200"/>
            <a:ext cx="3648240" cy="3659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OLLECTION SWAB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r swab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id Strep A an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erobic/Anaerobic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RSA Surveillanc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pecial labeling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51" name="Google Shape;153;p6" descr="a photo example of a collection swab. "/>
          <p:cNvPicPr/>
          <p:nvPr/>
        </p:nvPicPr>
        <p:blipFill>
          <a:blip r:embed="rId2"/>
          <a:stretch/>
        </p:blipFill>
        <p:spPr>
          <a:xfrm>
            <a:off x="7308720" y="2901960"/>
            <a:ext cx="2832120" cy="105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S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el each tub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mindful of tub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55" name="Google Shape;160;p7" descr="a photo example of tubes to highlight the importance of labeling. "/>
          <p:cNvPicPr/>
          <p:nvPr/>
        </p:nvPicPr>
        <p:blipFill>
          <a:blip r:embed="rId2"/>
          <a:srcRect l="13776" t="0" r="0" b="0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. DIF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s 5-7 will be acce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24 hours ordered without collection will be canc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 testing discouraged within 7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59" name="Google Shape;167;p8" descr="image of a chart displaying the Bristol Stool Chart "/>
          <p:cNvPicPr/>
          <p:nvPr/>
        </p:nvPicPr>
        <p:blipFill>
          <a:blip r:embed="rId2"/>
          <a:stretch/>
        </p:blipFill>
        <p:spPr>
          <a:xfrm>
            <a:off x="6867360" y="957240"/>
            <a:ext cx="456912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Preview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wab – to replace bacterial sw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be used for Rapid Strep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63" name="Google Shape;174;p9" descr="photo showing images of eSwabs."/>
          <p:cNvPicPr/>
          <p:nvPr/>
        </p:nvPicPr>
        <p:blipFill>
          <a:blip r:embed="rId2"/>
          <a:srcRect l="4099" t="-35514" r="4099" b="-44620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7T19:57:26Z</dcterms:created>
  <dc:creator>Marc Benedict Bernaldez</dc:creator>
  <dc:description/>
  <dc:language>en-US</dc:language>
  <cp:lastModifiedBy>app</cp:lastModifiedBy>
  <dcterms:modified xsi:type="dcterms:W3CDTF">2023-09-22T20:40:17Z</dcterms:modified>
  <cp:revision>3</cp:revision>
  <dc:subject/>
  <dc:title>Microbiology Specimen Labeling</dc:title>
</cp:coreProperties>
</file>